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325100" cy="7175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6045-24EF-4D59-85D7-88935BB2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520" y="286920"/>
            <a:ext cx="9293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929340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520" y="4148280"/>
            <a:ext cx="929340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6D2-215B-47F7-958A-1AF099AF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520" y="286920"/>
            <a:ext cx="9293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453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600" y="1674720"/>
            <a:ext cx="453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520" y="4148280"/>
            <a:ext cx="453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600" y="4148280"/>
            <a:ext cx="453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5FCF-5ED0-4AD6-BD66-C980B803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520" y="286920"/>
            <a:ext cx="9293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29923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7960" y="1674720"/>
            <a:ext cx="29923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0040" y="1674720"/>
            <a:ext cx="29923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520" y="4148280"/>
            <a:ext cx="29923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7960" y="4148280"/>
            <a:ext cx="29923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00040" y="4148280"/>
            <a:ext cx="29923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3664-72B9-4379-A11D-6EB6A636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520" y="286920"/>
            <a:ext cx="9293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2A11-4618-453E-AA49-1E94DDB5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520" y="286920"/>
            <a:ext cx="9293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E82-C0F4-4C7C-B881-A43817EE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520" y="286920"/>
            <a:ext cx="9293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453492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600" y="1674720"/>
            <a:ext cx="453492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8A5E-6D51-4635-A7C2-CD3D5260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520" y="286920"/>
            <a:ext cx="9293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AA4-7A54-4915-B2F2-32FE6D6A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520" y="286920"/>
            <a:ext cx="9293400" cy="55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454-686B-41ED-98E3-7B46B96B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520" y="286920"/>
            <a:ext cx="9293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453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600" y="1674720"/>
            <a:ext cx="453492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520" y="4148280"/>
            <a:ext cx="453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F63E-69E0-4229-BFF0-D7A07A1B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520" y="286920"/>
            <a:ext cx="9293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453492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600" y="1674720"/>
            <a:ext cx="453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600" y="4148280"/>
            <a:ext cx="453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B30E-0D86-410A-9380-A723653A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520" y="286920"/>
            <a:ext cx="9293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453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600" y="1674720"/>
            <a:ext cx="453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520" y="4148280"/>
            <a:ext cx="929340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04A-85A3-47EB-A0B1-B8CF00C3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520" y="286920"/>
            <a:ext cx="9293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880" y="6649560"/>
            <a:ext cx="24098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27280" y="6649560"/>
            <a:ext cx="32702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9440" y="6649560"/>
            <a:ext cx="24098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E7A4-AB4F-4451-A666-81A219E0FC6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5520" y="499680"/>
            <a:ext cx="9293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d5d00"/>
                </a:solidFill>
                <a:latin typeface="Verdana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ifferent 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ath by Power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asic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3527280" y="6649920"/>
            <a:ext cx="3270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lide Number Placeholder 4"/>
          <p:cNvSpPr/>
          <p:nvPr/>
        </p:nvSpPr>
        <p:spPr>
          <a:xfrm>
            <a:off x="7399440" y="6649920"/>
            <a:ext cx="2409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4B37-9793-447A-8DB3-A30DFF25897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5520" y="161640"/>
            <a:ext cx="92934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d5d00"/>
                </a:solidFill>
                <a:latin typeface="Verdana"/>
              </a:rPr>
              <a:t>WORKING WITH MASTERS &amp; TEMPL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lide &amp; title ma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ther ma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ultiple ma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ackgr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Various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sign Templ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3527280" y="6649920"/>
            <a:ext cx="3270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7399440" y="6649920"/>
            <a:ext cx="2409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549D-6680-400F-BE9D-E6BE1605E3D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5520" y="499680"/>
            <a:ext cx="9293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d5d00"/>
                </a:solidFill>
                <a:latin typeface="Verdana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li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lide sor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lide Sh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le form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ypes of presen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ooter Placeholder 3"/>
          <p:cNvSpPr/>
          <p:nvPr/>
        </p:nvSpPr>
        <p:spPr>
          <a:xfrm>
            <a:off x="3527280" y="6649920"/>
            <a:ext cx="3270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399440" y="6649920"/>
            <a:ext cx="2409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67F9-440F-4B03-B0A2-818760D150A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5520" y="161640"/>
            <a:ext cx="92934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d5d00"/>
                </a:solidFill>
                <a:latin typeface="Verdana"/>
              </a:rPr>
              <a:t>QUICK AND DIRTY PRES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empl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ooter Placeholder 3"/>
          <p:cNvSpPr/>
          <p:nvPr/>
        </p:nvSpPr>
        <p:spPr>
          <a:xfrm>
            <a:off x="3527280" y="6649920"/>
            <a:ext cx="3270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7399440" y="6649920"/>
            <a:ext cx="2409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1612-B5EF-4348-8417-865B97018B6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5520" y="499680"/>
            <a:ext cx="9293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d5d00"/>
                </a:solidFill>
                <a:latin typeface="Verdana"/>
              </a:rPr>
              <a:t>BASIC CONCEP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2 Lay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ent lay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ign lay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lide Layo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lour sche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ackgr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3527280" y="6649920"/>
            <a:ext cx="3270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7399440" y="6649920"/>
            <a:ext cx="2409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9BAE-297F-496D-B211-3129AA04607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5520" y="499680"/>
            <a:ext cx="9293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d5d00"/>
                </a:solidFill>
                <a:latin typeface="Verdana"/>
              </a:rPr>
              <a:t>WORKING WITH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utline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abulations and marg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ulti colum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pecial text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3"/>
          <p:cNvSpPr/>
          <p:nvPr/>
        </p:nvSpPr>
        <p:spPr>
          <a:xfrm>
            <a:off x="3527280" y="6649920"/>
            <a:ext cx="3270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7399440" y="6649920"/>
            <a:ext cx="2409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0904-65DF-431C-AB21-C82F240C94A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5520" y="499680"/>
            <a:ext cx="9293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d5d00"/>
                </a:solidFill>
                <a:latin typeface="Verdana"/>
              </a:rPr>
              <a:t>INSERTING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Text objec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Placeholde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Textbox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Imag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Graphic forma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Using the PhotoAlb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lipar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Drawing objec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utoshap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SmartAr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wordar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har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Link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Hyperlink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Navig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OLE objec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Tabl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Diagram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Object manag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Selec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Mov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Ord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Group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3527280" y="6649920"/>
            <a:ext cx="3270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7399440" y="6649920"/>
            <a:ext cx="2409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3EF7-75F3-4EB4-8084-9CFF9F5CD5B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5520" y="161640"/>
            <a:ext cx="92934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d5d00"/>
                </a:solidFill>
                <a:latin typeface="Verdana"/>
              </a:rPr>
              <a:t>ANIMATING THE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lide Trans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ustom Anim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inks and action butt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3527280" y="6649920"/>
            <a:ext cx="3270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7399440" y="6649920"/>
            <a:ext cx="2409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8022-EE61-4DB2-AA2F-4BE00E81849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5520" y="499680"/>
            <a:ext cx="9293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d5d00"/>
                </a:solidFill>
                <a:latin typeface="Verdana"/>
              </a:rPr>
              <a:t>DOING THE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ustom Sh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io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iding s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i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Footer Placeholder 3"/>
          <p:cNvSpPr/>
          <p:nvPr/>
        </p:nvSpPr>
        <p:spPr>
          <a:xfrm>
            <a:off x="3527280" y="6649920"/>
            <a:ext cx="3270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7399440" y="6649920"/>
            <a:ext cx="2409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3DC0-5094-4C22-8E51-CE353D95A91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5520" y="499680"/>
            <a:ext cx="9293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d5d00"/>
                </a:solidFill>
                <a:latin typeface="Verdana"/>
              </a:rPr>
              <a:t>SPECIF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5520" y="1674720"/>
            <a:ext cx="92934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roof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viewing / Com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xport / im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rint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ublishing to w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i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hft-F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a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Gui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hift Click on view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Nudg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B - blan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trl-Al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hoto Albu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ummary sli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end to Wo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olour Sca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oter Placeholder 3"/>
          <p:cNvSpPr/>
          <p:nvPr/>
        </p:nvSpPr>
        <p:spPr>
          <a:xfrm>
            <a:off x="3527280" y="6649920"/>
            <a:ext cx="3270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7399440" y="6649920"/>
            <a:ext cx="2409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DD6F-6915-4470-85E0-CA75290BDC9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9:48:07Z</dcterms:created>
  <dc:creator>DP</dc:creator>
  <dc:description/>
  <dc:language>en-US</dc:language>
  <cp:lastModifiedBy>DP</cp:lastModifiedBy>
  <dcterms:modified xsi:type="dcterms:W3CDTF">2011-07-06T09:50:30Z</dcterms:modified>
  <cp:revision>2</cp:revision>
  <dc:subject/>
  <dc:title>INTRODUCTION</dc:title>
</cp:coreProperties>
</file>